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5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5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53337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5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304920" y="1676520"/>
            <a:ext cx="4114800" cy="4876560"/>
            <a:chOff x="304920" y="1676520"/>
            <a:chExt cx="4114800" cy="4876560"/>
          </a:xfrm>
        </p:grpSpPr>
        <p:sp>
          <p:nvSpPr>
            <p:cNvPr id="78" name=""/>
            <p:cNvSpPr/>
            <p:nvPr/>
          </p:nvSpPr>
          <p:spPr>
            <a:xfrm>
              <a:off x="304920" y="1676520"/>
              <a:ext cx="4114800" cy="4876560"/>
            </a:xfrm>
            <a:custGeom>
              <a:avLst/>
              <a:gdLst>
                <a:gd name="textAreaLeft" fmla="*/ 73440 w 4114800"/>
                <a:gd name="textAreaRight" fmla="*/ 4041360 w 4114800"/>
                <a:gd name="textAreaTop" fmla="*/ 73440 h 4876560"/>
                <a:gd name="textAreaBottom" fmla="*/ 4803120 h 4876560"/>
              </a:gdLst>
              <a:ahLst/>
              <a:rect l="textAreaLeft" t="textAreaTop" r="textAreaRight" b="textAreaBottom"/>
              <a:pathLst>
                <a:path w="21600" h="25598">
                  <a:moveTo>
                    <a:pt x="1317" y="0"/>
                  </a:moveTo>
                  <a:arcTo wR="1317" hR="1317" stAng="16200000" swAng="-5400000"/>
                  <a:lnTo>
                    <a:pt x="0" y="24281"/>
                  </a:lnTo>
                  <a:arcTo wR="1317" hR="1317" stAng="10800000" swAng="-5400000"/>
                  <a:lnTo>
                    <a:pt x="20283" y="25598"/>
                  </a:lnTo>
                  <a:arcTo wR="1317" hR="1317" stAng="5400000" swAng="-5400000"/>
                  <a:lnTo>
                    <a:pt x="21600" y="1317"/>
                  </a:lnTo>
                  <a:arcTo wR="1317" hR="1317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304920" y="1676520"/>
              <a:ext cx="4114800" cy="48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317520" y="380880"/>
            <a:ext cx="6845400" cy="12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Arial"/>
              </a:rPr>
              <a:t>A world with boundaries…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rcRect l="3692" t="0" r="14766" b="9844"/>
          <a:stretch/>
        </p:blipFill>
        <p:spPr>
          <a:xfrm>
            <a:off x="380880" y="2438280"/>
            <a:ext cx="397692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orld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39acf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27320" y="3965400"/>
            <a:ext cx="927000" cy="1236960"/>
          </a:xfrm>
          <a:custGeom>
            <a:avLst/>
            <a:gdLst/>
            <a:ahLst/>
            <a:rect l="l" t="t" r="r" b="b"/>
            <a:pathLst>
              <a:path w="584" h="779">
                <a:moveTo>
                  <a:pt x="8" y="8"/>
                </a:moveTo>
                <a:cubicBezTo>
                  <a:pt x="24" y="53"/>
                  <a:pt x="0" y="0"/>
                  <a:pt x="31" y="31"/>
                </a:cubicBezTo>
                <a:cubicBezTo>
                  <a:pt x="34" y="34"/>
                  <a:pt x="43" y="70"/>
                  <a:pt x="43" y="71"/>
                </a:cubicBezTo>
                <a:cubicBezTo>
                  <a:pt x="28" y="143"/>
                  <a:pt x="60" y="181"/>
                  <a:pt x="77" y="244"/>
                </a:cubicBezTo>
                <a:cubicBezTo>
                  <a:pt x="75" y="277"/>
                  <a:pt x="76" y="310"/>
                  <a:pt x="72" y="342"/>
                </a:cubicBezTo>
                <a:cubicBezTo>
                  <a:pt x="70" y="354"/>
                  <a:pt x="60" y="376"/>
                  <a:pt x="60" y="376"/>
                </a:cubicBezTo>
                <a:cubicBezTo>
                  <a:pt x="77" y="428"/>
                  <a:pt x="79" y="458"/>
                  <a:pt x="129" y="491"/>
                </a:cubicBezTo>
                <a:cubicBezTo>
                  <a:pt x="134" y="506"/>
                  <a:pt x="142" y="531"/>
                  <a:pt x="152" y="543"/>
                </a:cubicBezTo>
                <a:cubicBezTo>
                  <a:pt x="156" y="548"/>
                  <a:pt x="182" y="563"/>
                  <a:pt x="187" y="566"/>
                </a:cubicBezTo>
                <a:cubicBezTo>
                  <a:pt x="243" y="603"/>
                  <a:pt x="293" y="612"/>
                  <a:pt x="360" y="618"/>
                </a:cubicBezTo>
                <a:cubicBezTo>
                  <a:pt x="390" y="629"/>
                  <a:pt x="396" y="650"/>
                  <a:pt x="423" y="658"/>
                </a:cubicBezTo>
                <a:cubicBezTo>
                  <a:pt x="463" y="686"/>
                  <a:pt x="445" y="675"/>
                  <a:pt x="475" y="693"/>
                </a:cubicBezTo>
                <a:cubicBezTo>
                  <a:pt x="482" y="719"/>
                  <a:pt x="478" y="730"/>
                  <a:pt x="504" y="739"/>
                </a:cubicBezTo>
                <a:cubicBezTo>
                  <a:pt x="531" y="757"/>
                  <a:pt x="551" y="779"/>
                  <a:pt x="584" y="779"/>
                </a:cubicBezTo>
              </a:path>
            </a:pathLst>
          </a:custGeom>
          <a:noFill/>
          <a:ln w="126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52520" y="3300480"/>
            <a:ext cx="887400" cy="677880"/>
          </a:xfrm>
          <a:custGeom>
            <a:avLst/>
            <a:gdLst/>
            <a:ahLst/>
            <a:rect l="l" t="t" r="r" b="b"/>
            <a:pathLst>
              <a:path w="559" h="427">
                <a:moveTo>
                  <a:pt x="0" y="0"/>
                </a:moveTo>
                <a:cubicBezTo>
                  <a:pt x="7" y="56"/>
                  <a:pt x="9" y="58"/>
                  <a:pt x="58" y="75"/>
                </a:cubicBezTo>
                <a:cubicBezTo>
                  <a:pt x="75" y="100"/>
                  <a:pt x="78" y="121"/>
                  <a:pt x="104" y="139"/>
                </a:cubicBezTo>
                <a:cubicBezTo>
                  <a:pt x="112" y="162"/>
                  <a:pt x="119" y="171"/>
                  <a:pt x="139" y="185"/>
                </a:cubicBezTo>
                <a:cubicBezTo>
                  <a:pt x="151" y="202"/>
                  <a:pt x="157" y="224"/>
                  <a:pt x="173" y="237"/>
                </a:cubicBezTo>
                <a:cubicBezTo>
                  <a:pt x="178" y="241"/>
                  <a:pt x="185" y="241"/>
                  <a:pt x="191" y="242"/>
                </a:cubicBezTo>
                <a:cubicBezTo>
                  <a:pt x="244" y="251"/>
                  <a:pt x="290" y="251"/>
                  <a:pt x="346" y="254"/>
                </a:cubicBezTo>
                <a:cubicBezTo>
                  <a:pt x="361" y="275"/>
                  <a:pt x="357" y="286"/>
                  <a:pt x="381" y="294"/>
                </a:cubicBezTo>
                <a:cubicBezTo>
                  <a:pt x="392" y="302"/>
                  <a:pt x="404" y="309"/>
                  <a:pt x="415" y="317"/>
                </a:cubicBezTo>
                <a:cubicBezTo>
                  <a:pt x="425" y="324"/>
                  <a:pt x="423" y="340"/>
                  <a:pt x="427" y="352"/>
                </a:cubicBezTo>
                <a:cubicBezTo>
                  <a:pt x="431" y="365"/>
                  <a:pt x="439" y="378"/>
                  <a:pt x="450" y="386"/>
                </a:cubicBezTo>
                <a:cubicBezTo>
                  <a:pt x="489" y="412"/>
                  <a:pt x="494" y="414"/>
                  <a:pt x="542" y="421"/>
                </a:cubicBezTo>
                <a:cubicBezTo>
                  <a:pt x="548" y="423"/>
                  <a:pt x="559" y="427"/>
                  <a:pt x="559" y="427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676520"/>
            <a:ext cx="4114800" cy="4876560"/>
          </a:xfrm>
          <a:custGeom>
            <a:avLst/>
            <a:gdLst>
              <a:gd name="textAreaLeft" fmla="*/ 73440 w 4114800"/>
              <a:gd name="textAreaRight" fmla="*/ 4041360 w 4114800"/>
              <a:gd name="textAreaTop" fmla="*/ 73440 h 4876560"/>
              <a:gd name="textAreaBottom" fmla="*/ 4803120 h 4876560"/>
            </a:gdLst>
            <a:ahLst/>
            <a:rect l="textAreaLeft" t="textAreaTop" r="textAreaRight" b="textAreaBottom"/>
            <a:pathLst>
              <a:path w="21600" h="25598">
                <a:moveTo>
                  <a:pt x="1317" y="0"/>
                </a:moveTo>
                <a:arcTo wR="1317" hR="1317" stAng="16200000" swAng="-5400000"/>
                <a:lnTo>
                  <a:pt x="0" y="24281"/>
                </a:lnTo>
                <a:arcTo wR="1317" hR="1317" stAng="10800000" swAng="-5400000"/>
                <a:lnTo>
                  <a:pt x="20283" y="25598"/>
                </a:lnTo>
                <a:arcTo wR="1317" hR="1317" stAng="5400000" swAng="-5400000"/>
                <a:lnTo>
                  <a:pt x="21600" y="1317"/>
                </a:lnTo>
                <a:arcTo wR="1317" hR="131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59ab"/>
                </a:solidFill>
                <a:latin typeface="Arial"/>
              </a:rPr>
              <a:t>at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rcRect l="7382" t="14764" r="7382" b="14764"/>
          <a:stretch/>
        </p:blipFill>
        <p:spPr>
          <a:xfrm>
            <a:off x="4911840" y="2840040"/>
            <a:ext cx="3774960" cy="234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20120" y="5181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d59ab"/>
                </a:solidFill>
                <a:latin typeface="Arial"/>
              </a:rPr>
              <a:t>chart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4343400"/>
            <a:ext cx="1427040" cy="936720"/>
          </a:xfrm>
          <a:custGeom>
            <a:avLst/>
            <a:gdLst/>
            <a:ahLst/>
            <a:rect l="l" t="t" r="r" b="b"/>
            <a:pathLst>
              <a:path w="915" h="653">
                <a:moveTo>
                  <a:pt x="915" y="653"/>
                </a:moveTo>
                <a:cubicBezTo>
                  <a:pt x="342" y="437"/>
                  <a:pt x="189" y="299"/>
                  <a:pt x="0" y="0"/>
                </a:cubicBezTo>
              </a:path>
            </a:pathLst>
          </a:custGeom>
          <a:noFill/>
          <a:ln w="38160">
            <a:solidFill>
              <a:srgbClr val="939ac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65880" y="3816360"/>
            <a:ext cx="557280" cy="1338120"/>
          </a:xfrm>
          <a:custGeom>
            <a:avLst/>
            <a:gdLst/>
            <a:ahLst/>
            <a:rect l="l" t="t" r="r" b="b"/>
            <a:pathLst>
              <a:path w="351" h="843">
                <a:moveTo>
                  <a:pt x="351" y="843"/>
                </a:moveTo>
                <a:cubicBezTo>
                  <a:pt x="313" y="774"/>
                  <a:pt x="181" y="570"/>
                  <a:pt x="123" y="430"/>
                </a:cubicBezTo>
                <a:cubicBezTo>
                  <a:pt x="65" y="290"/>
                  <a:pt x="26" y="90"/>
                  <a:pt x="0" y="0"/>
                </a:cubicBezTo>
              </a:path>
            </a:pathLst>
          </a:custGeom>
          <a:noFill/>
          <a:ln w="38160">
            <a:solidFill>
              <a:srgbClr val="939ac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57960" y="4156200"/>
            <a:ext cx="1199880" cy="26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18080" y="38512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190840" y="3317400"/>
            <a:ext cx="266760" cy="1111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79680" y="31273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10480" y="3727080"/>
            <a:ext cx="847800" cy="158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1720" y="36511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486480" y="3117960"/>
            <a:ext cx="324000" cy="777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1280" y="2927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3352680"/>
            <a:ext cx="1130040" cy="1143000"/>
          </a:xfrm>
          <a:custGeom>
            <a:avLst/>
            <a:gdLst/>
            <a:ahLst/>
            <a:rect l="l" t="t" r="r" b="b"/>
            <a:pathLst>
              <a:path w="712" h="720">
                <a:moveTo>
                  <a:pt x="0" y="720"/>
                </a:moveTo>
                <a:cubicBezTo>
                  <a:pt x="184" y="608"/>
                  <a:pt x="368" y="496"/>
                  <a:pt x="432" y="384"/>
                </a:cubicBezTo>
                <a:cubicBezTo>
                  <a:pt x="496" y="272"/>
                  <a:pt x="344" y="80"/>
                  <a:pt x="384" y="48"/>
                </a:cubicBezTo>
                <a:cubicBezTo>
                  <a:pt x="424" y="16"/>
                  <a:pt x="632" y="200"/>
                  <a:pt x="672" y="192"/>
                </a:cubicBezTo>
                <a:cubicBezTo>
                  <a:pt x="712" y="184"/>
                  <a:pt x="632" y="32"/>
                  <a:pt x="624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962520"/>
            <a:ext cx="92736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76" y="0"/>
                </a:moveTo>
                <a:cubicBezTo>
                  <a:pt x="580" y="20"/>
                  <a:pt x="584" y="40"/>
                  <a:pt x="528" y="48"/>
                </a:cubicBezTo>
                <a:cubicBezTo>
                  <a:pt x="472" y="56"/>
                  <a:pt x="312" y="0"/>
                  <a:pt x="240" y="48"/>
                </a:cubicBezTo>
                <a:cubicBezTo>
                  <a:pt x="168" y="96"/>
                  <a:pt x="136" y="240"/>
                  <a:pt x="96" y="336"/>
                </a:cubicBezTo>
                <a:cubicBezTo>
                  <a:pt x="56" y="432"/>
                  <a:pt x="16" y="576"/>
                  <a:pt x="0" y="624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4191120"/>
            <a:ext cx="809640" cy="495360"/>
          </a:xfrm>
          <a:custGeom>
            <a:avLst/>
            <a:gdLst/>
            <a:ahLst/>
            <a:rect l="l" t="t" r="r" b="b"/>
            <a:pathLst>
              <a:path w="528" h="312">
                <a:moveTo>
                  <a:pt x="0" y="0"/>
                </a:moveTo>
                <a:cubicBezTo>
                  <a:pt x="0" y="132"/>
                  <a:pt x="0" y="264"/>
                  <a:pt x="48" y="288"/>
                </a:cubicBezTo>
                <a:cubicBezTo>
                  <a:pt x="96" y="312"/>
                  <a:pt x="224" y="152"/>
                  <a:pt x="288" y="144"/>
                </a:cubicBezTo>
                <a:cubicBezTo>
                  <a:pt x="352" y="136"/>
                  <a:pt x="392" y="232"/>
                  <a:pt x="432" y="240"/>
                </a:cubicBezTo>
                <a:cubicBezTo>
                  <a:pt x="472" y="248"/>
                  <a:pt x="500" y="220"/>
                  <a:pt x="528" y="192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14480" y="2924280"/>
            <a:ext cx="1079640" cy="552240"/>
          </a:xfrm>
          <a:custGeom>
            <a:avLst/>
            <a:gdLst/>
            <a:ahLst/>
            <a:rect l="l" t="t" r="r" b="b"/>
            <a:pathLst>
              <a:path w="680" h="348">
                <a:moveTo>
                  <a:pt x="648" y="324"/>
                </a:moveTo>
                <a:cubicBezTo>
                  <a:pt x="593" y="342"/>
                  <a:pt x="680" y="314"/>
                  <a:pt x="600" y="336"/>
                </a:cubicBezTo>
                <a:cubicBezTo>
                  <a:pt x="588" y="339"/>
                  <a:pt x="564" y="348"/>
                  <a:pt x="564" y="348"/>
                </a:cubicBezTo>
                <a:cubicBezTo>
                  <a:pt x="532" y="316"/>
                  <a:pt x="540" y="309"/>
                  <a:pt x="546" y="258"/>
                </a:cubicBezTo>
                <a:cubicBezTo>
                  <a:pt x="501" y="236"/>
                  <a:pt x="455" y="249"/>
                  <a:pt x="408" y="258"/>
                </a:cubicBezTo>
                <a:cubicBezTo>
                  <a:pt x="394" y="215"/>
                  <a:pt x="412" y="171"/>
                  <a:pt x="372" y="144"/>
                </a:cubicBezTo>
                <a:cubicBezTo>
                  <a:pt x="339" y="150"/>
                  <a:pt x="296" y="160"/>
                  <a:pt x="264" y="144"/>
                </a:cubicBezTo>
                <a:cubicBezTo>
                  <a:pt x="253" y="138"/>
                  <a:pt x="259" y="119"/>
                  <a:pt x="252" y="108"/>
                </a:cubicBezTo>
                <a:cubicBezTo>
                  <a:pt x="237" y="85"/>
                  <a:pt x="230" y="61"/>
                  <a:pt x="222" y="36"/>
                </a:cubicBezTo>
                <a:cubicBezTo>
                  <a:pt x="210" y="0"/>
                  <a:pt x="146" y="32"/>
                  <a:pt x="108" y="30"/>
                </a:cubicBezTo>
                <a:cubicBezTo>
                  <a:pt x="106" y="24"/>
                  <a:pt x="108" y="13"/>
                  <a:pt x="102" y="12"/>
                </a:cubicBezTo>
                <a:cubicBezTo>
                  <a:pt x="89" y="10"/>
                  <a:pt x="78" y="20"/>
                  <a:pt x="66" y="24"/>
                </a:cubicBezTo>
                <a:cubicBezTo>
                  <a:pt x="60" y="26"/>
                  <a:pt x="48" y="30"/>
                  <a:pt x="48" y="30"/>
                </a:cubicBezTo>
                <a:cubicBezTo>
                  <a:pt x="29" y="2"/>
                  <a:pt x="28" y="10"/>
                  <a:pt x="0" y="24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5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04920" y="1676520"/>
            <a:ext cx="4114800" cy="4876560"/>
            <a:chOff x="304920" y="1676520"/>
            <a:chExt cx="4114800" cy="4876560"/>
          </a:xfrm>
        </p:grpSpPr>
        <p:sp>
          <p:nvSpPr>
            <p:cNvPr id="106" name=""/>
            <p:cNvSpPr/>
            <p:nvPr/>
          </p:nvSpPr>
          <p:spPr>
            <a:xfrm>
              <a:off x="304920" y="1676520"/>
              <a:ext cx="4114800" cy="4876560"/>
            </a:xfrm>
            <a:custGeom>
              <a:avLst/>
              <a:gdLst>
                <a:gd name="textAreaLeft" fmla="*/ 73440 w 4114800"/>
                <a:gd name="textAreaRight" fmla="*/ 4041360 w 4114800"/>
                <a:gd name="textAreaTop" fmla="*/ 73440 h 4876560"/>
                <a:gd name="textAreaBottom" fmla="*/ 4803120 h 4876560"/>
              </a:gdLst>
              <a:ahLst/>
              <a:rect l="textAreaLeft" t="textAreaTop" r="textAreaRight" b="textAreaBottom"/>
              <a:pathLst>
                <a:path w="21600" h="25598">
                  <a:moveTo>
                    <a:pt x="1317" y="0"/>
                  </a:moveTo>
                  <a:arcTo wR="1317" hR="1317" stAng="16200000" swAng="-5400000"/>
                  <a:lnTo>
                    <a:pt x="0" y="24281"/>
                  </a:lnTo>
                  <a:arcTo wR="1317" hR="1317" stAng="10800000" swAng="-5400000"/>
                  <a:lnTo>
                    <a:pt x="20283" y="25598"/>
                  </a:lnTo>
                  <a:arcTo wR="1317" hR="1317" stAng="5400000" swAng="-5400000"/>
                  <a:lnTo>
                    <a:pt x="21600" y="1317"/>
                  </a:lnTo>
                  <a:arcTo wR="1317" hR="1317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304920" y="1676520"/>
              <a:ext cx="4114800" cy="48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317520" y="380880"/>
            <a:ext cx="6845400" cy="12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Arial"/>
              </a:rPr>
              <a:t>A world </a:t>
            </a:r>
            <a:r>
              <a:rPr b="1" i="1" lang="en-US" sz="3700" spc="-1" strike="noStrike">
                <a:solidFill>
                  <a:srgbClr val="eaeaea"/>
                </a:solidFill>
                <a:latin typeface="Arial"/>
              </a:rPr>
              <a:t>without</a:t>
            </a:r>
            <a:r>
              <a:rPr b="1" lang="en-US" sz="3700" spc="-1" strike="noStrike">
                <a:solidFill>
                  <a:srgbClr val="eaeaea"/>
                </a:solidFill>
                <a:latin typeface="Arial"/>
              </a:rPr>
              <a:t> boundaries…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3692" t="0" r="14766" b="9844"/>
          <a:stretch/>
        </p:blipFill>
        <p:spPr>
          <a:xfrm>
            <a:off x="380880" y="2438280"/>
            <a:ext cx="3976920" cy="329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orld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39acf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1676520"/>
            <a:ext cx="4114800" cy="4876560"/>
          </a:xfrm>
          <a:custGeom>
            <a:avLst/>
            <a:gdLst>
              <a:gd name="textAreaLeft" fmla="*/ 73440 w 4114800"/>
              <a:gd name="textAreaRight" fmla="*/ 4041360 w 4114800"/>
              <a:gd name="textAreaTop" fmla="*/ 73440 h 4876560"/>
              <a:gd name="textAreaBottom" fmla="*/ 4803120 h 4876560"/>
            </a:gdLst>
            <a:ahLst/>
            <a:rect l="textAreaLeft" t="textAreaTop" r="textAreaRight" b="textAreaBottom"/>
            <a:pathLst>
              <a:path w="21600" h="25598">
                <a:moveTo>
                  <a:pt x="1317" y="0"/>
                </a:moveTo>
                <a:arcTo wR="1317" hR="1317" stAng="16200000" swAng="-5400000"/>
                <a:lnTo>
                  <a:pt x="0" y="24281"/>
                </a:lnTo>
                <a:arcTo wR="1317" hR="1317" stAng="10800000" swAng="-5400000"/>
                <a:lnTo>
                  <a:pt x="20283" y="25598"/>
                </a:lnTo>
                <a:arcTo wR="1317" hR="1317" stAng="5400000" swAng="-5400000"/>
                <a:lnTo>
                  <a:pt x="21600" y="1317"/>
                </a:lnTo>
                <a:arcTo wR="1317" hR="131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59ab"/>
                </a:solidFill>
                <a:latin typeface="Arial"/>
              </a:rPr>
              <a:t>cube-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rcRect l="11073" t="14764" r="11073" b="14764"/>
          <a:stretch/>
        </p:blipFill>
        <p:spPr>
          <a:xfrm>
            <a:off x="5181480" y="3124080"/>
            <a:ext cx="3797280" cy="2578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77040" y="3392640"/>
            <a:ext cx="1747800" cy="2303280"/>
          </a:xfrm>
          <a:custGeom>
            <a:avLst/>
            <a:gdLst/>
            <a:ahLst/>
            <a:rect l="l" t="t" r="r" b="b"/>
            <a:pathLst>
              <a:path w="1101" h="1451">
                <a:moveTo>
                  <a:pt x="0" y="0"/>
                </a:moveTo>
                <a:lnTo>
                  <a:pt x="1101" y="104"/>
                </a:lnTo>
                <a:lnTo>
                  <a:pt x="1092" y="1451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794720" y="4419720"/>
            <a:ext cx="714240" cy="98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21360" y="2590920"/>
            <a:ext cx="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02040" y="4495680"/>
            <a:ext cx="68580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9800" y="4162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691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41920" y="243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419720" y="1447920"/>
            <a:ext cx="1828800" cy="1447560"/>
            <a:chOff x="4419720" y="1447920"/>
            <a:chExt cx="1828800" cy="1447560"/>
          </a:xfrm>
        </p:grpSpPr>
        <p:sp>
          <p:nvSpPr>
            <p:cNvPr id="124" name=""/>
            <p:cNvSpPr/>
            <p:nvPr/>
          </p:nvSpPr>
          <p:spPr>
            <a:xfrm>
              <a:off x="4495680" y="1447920"/>
              <a:ext cx="1752840" cy="1447560"/>
            </a:xfrm>
            <a:prstGeom prst="roundRect">
              <a:avLst>
                <a:gd name="adj" fmla="val 1513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19720" y="2514600"/>
              <a:ext cx="182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 algn="r">
                <a:lnSpc>
                  <a:spcPct val="9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ure RAM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4">
              <a:lum bright="14000"/>
            </a:blip>
            <a:stretch/>
          </p:blipFill>
          <p:spPr>
            <a:xfrm flipH="1" rot="16200000">
              <a:off x="4647960" y="1599120"/>
              <a:ext cx="493920" cy="4892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27" name="" descr=""/>
            <p:cNvPicPr/>
            <p:nvPr/>
          </p:nvPicPr>
          <p:blipFill>
            <a:blip r:embed="rId5">
              <a:lum bright="14000"/>
            </a:blip>
            <a:stretch/>
          </p:blipFill>
          <p:spPr>
            <a:xfrm rot="5400000">
              <a:off x="4801320" y="1675440"/>
              <a:ext cx="493560" cy="488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28" name="" descr=""/>
            <p:cNvPicPr/>
            <p:nvPr/>
          </p:nvPicPr>
          <p:blipFill>
            <a:blip r:embed="rId6">
              <a:lum bright="14000"/>
            </a:blip>
            <a:stretch/>
          </p:blipFill>
          <p:spPr>
            <a:xfrm flipH="1">
              <a:off x="4952880" y="1752480"/>
              <a:ext cx="493920" cy="4892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29" name="" descr=""/>
            <p:cNvPicPr/>
            <p:nvPr/>
          </p:nvPicPr>
          <p:blipFill>
            <a:blip r:embed="rId7">
              <a:lum bright="14000"/>
            </a:blip>
            <a:stretch/>
          </p:blipFill>
          <p:spPr>
            <a:xfrm rot="10800000">
              <a:off x="5105160" y="1828800"/>
              <a:ext cx="493560" cy="488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30" name="" descr=""/>
            <p:cNvPicPr/>
            <p:nvPr/>
          </p:nvPicPr>
          <p:blipFill>
            <a:blip r:embed="rId8">
              <a:lum bright="14000"/>
            </a:blip>
            <a:stretch/>
          </p:blipFill>
          <p:spPr>
            <a:xfrm rot="16200000">
              <a:off x="5258520" y="1903680"/>
              <a:ext cx="493560" cy="4888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131" name="" descr=""/>
            <p:cNvPicPr/>
            <p:nvPr/>
          </p:nvPicPr>
          <p:blipFill>
            <a:blip r:embed="rId9">
              <a:lum bright="14000"/>
            </a:blip>
            <a:stretch/>
          </p:blipFill>
          <p:spPr>
            <a:xfrm>
              <a:off x="5410080" y="1981080"/>
              <a:ext cx="493920" cy="4892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sp>
        <p:nvSpPr>
          <p:cNvPr id="132" name=""/>
          <p:cNvSpPr/>
          <p:nvPr/>
        </p:nvSpPr>
        <p:spPr>
          <a:xfrm flipV="1">
            <a:off x="7216920" y="3306600"/>
            <a:ext cx="1014120" cy="252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5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04920" y="1676520"/>
            <a:ext cx="4114800" cy="4876560"/>
            <a:chOff x="304920" y="1676520"/>
            <a:chExt cx="4114800" cy="4876560"/>
          </a:xfrm>
        </p:grpSpPr>
        <p:sp>
          <p:nvSpPr>
            <p:cNvPr id="134" name=""/>
            <p:cNvSpPr/>
            <p:nvPr/>
          </p:nvSpPr>
          <p:spPr>
            <a:xfrm>
              <a:off x="304920" y="1676520"/>
              <a:ext cx="4114800" cy="4876560"/>
            </a:xfrm>
            <a:custGeom>
              <a:avLst/>
              <a:gdLst>
                <a:gd name="textAreaLeft" fmla="*/ 73440 w 4114800"/>
                <a:gd name="textAreaRight" fmla="*/ 4041360 w 4114800"/>
                <a:gd name="textAreaTop" fmla="*/ 73440 h 4876560"/>
                <a:gd name="textAreaBottom" fmla="*/ 4803120 h 4876560"/>
              </a:gdLst>
              <a:ahLst/>
              <a:rect l="textAreaLeft" t="textAreaTop" r="textAreaRight" b="textAreaBottom"/>
              <a:pathLst>
                <a:path w="21600" h="25598">
                  <a:moveTo>
                    <a:pt x="1317" y="0"/>
                  </a:moveTo>
                  <a:arcTo wR="1317" hR="1317" stAng="16200000" swAng="-5400000"/>
                  <a:lnTo>
                    <a:pt x="0" y="24281"/>
                  </a:lnTo>
                  <a:arcTo wR="1317" hR="1317" stAng="10800000" swAng="-5400000"/>
                  <a:lnTo>
                    <a:pt x="20283" y="25598"/>
                  </a:lnTo>
                  <a:arcTo wR="1317" hR="1317" stAng="5400000" swAng="-5400000"/>
                  <a:lnTo>
                    <a:pt x="21600" y="1317"/>
                  </a:lnTo>
                  <a:arcTo wR="1317" hR="1317" stAng="0" swAng="-5400000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304920" y="1676520"/>
              <a:ext cx="4114800" cy="48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317520" y="380880"/>
            <a:ext cx="6845400" cy="12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Arial"/>
              </a:rPr>
              <a:t>A world without boundaries…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orld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39acf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14766" t="14766" r="18458" b="19688"/>
          <a:stretch/>
        </p:blipFill>
        <p:spPr>
          <a:xfrm>
            <a:off x="685800" y="2895480"/>
            <a:ext cx="3257640" cy="2394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371600" y="52578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9900"/>
                </a:solidFill>
                <a:latin typeface="Arial"/>
              </a:rPr>
              <a:t>Siggraph 200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4419720"/>
            <a:ext cx="198144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1248" y="720"/>
                </a:moveTo>
                <a:lnTo>
                  <a:pt x="288" y="72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dddddd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1676520"/>
            <a:ext cx="4114800" cy="4876560"/>
          </a:xfrm>
          <a:custGeom>
            <a:avLst/>
            <a:gdLst>
              <a:gd name="textAreaLeft" fmla="*/ 73440 w 4114800"/>
              <a:gd name="textAreaRight" fmla="*/ 4041360 w 4114800"/>
              <a:gd name="textAreaTop" fmla="*/ 73440 h 4876560"/>
              <a:gd name="textAreaBottom" fmla="*/ 4803120 h 4876560"/>
            </a:gdLst>
            <a:ahLst/>
            <a:rect l="textAreaLeft" t="textAreaTop" r="textAreaRight" b="textAreaBottom"/>
            <a:pathLst>
              <a:path w="21600" h="25598">
                <a:moveTo>
                  <a:pt x="1317" y="0"/>
                </a:moveTo>
                <a:arcTo wR="1317" hR="1317" stAng="16200000" swAng="-5400000"/>
                <a:lnTo>
                  <a:pt x="0" y="24281"/>
                </a:lnTo>
                <a:arcTo wR="1317" hR="1317" stAng="10800000" swAng="-5400000"/>
                <a:lnTo>
                  <a:pt x="20283" y="25598"/>
                </a:lnTo>
                <a:arcTo wR="1317" hR="1317" stAng="5400000" swAng="-5400000"/>
                <a:lnTo>
                  <a:pt x="21600" y="1317"/>
                </a:lnTo>
                <a:arcTo wR="1317" hR="131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59ab"/>
                </a:solidFill>
                <a:latin typeface="Arial"/>
              </a:rPr>
              <a:t>polycube-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1447920"/>
            <a:ext cx="1752840" cy="1447560"/>
          </a:xfrm>
          <a:prstGeom prst="roundRect">
            <a:avLst>
              <a:gd name="adj" fmla="val 1513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51460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xture RA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rcRect l="7382" t="9843" r="7382" b="9843"/>
          <a:stretch/>
        </p:blipFill>
        <p:spPr>
          <a:xfrm>
            <a:off x="4759200" y="3159000"/>
            <a:ext cx="4156200" cy="2936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172360" y="4724280"/>
            <a:ext cx="714600" cy="98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08600" y="2779200"/>
            <a:ext cx="0" cy="762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9800" y="4390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69280" y="476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13280" y="2666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1760" y="3448080"/>
            <a:ext cx="395280" cy="1933560"/>
          </a:xfrm>
          <a:custGeom>
            <a:avLst/>
            <a:gdLst/>
            <a:ahLst/>
            <a:rect l="l" t="t" r="r" b="b"/>
            <a:pathLst>
              <a:path w="249" h="1218">
                <a:moveTo>
                  <a:pt x="20" y="1218"/>
                </a:moveTo>
                <a:lnTo>
                  <a:pt x="0" y="46"/>
                </a:lnTo>
                <a:lnTo>
                  <a:pt x="24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29440" y="3489480"/>
            <a:ext cx="415800" cy="1990440"/>
          </a:xfrm>
          <a:custGeom>
            <a:avLst/>
            <a:gdLst/>
            <a:ahLst/>
            <a:rect l="l" t="t" r="r" b="b"/>
            <a:pathLst>
              <a:path w="262" h="1254">
                <a:moveTo>
                  <a:pt x="14" y="1254"/>
                </a:moveTo>
                <a:lnTo>
                  <a:pt x="0" y="43"/>
                </a:lnTo>
                <a:lnTo>
                  <a:pt x="262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89840" y="3635280"/>
            <a:ext cx="357120" cy="2175120"/>
          </a:xfrm>
          <a:custGeom>
            <a:avLst/>
            <a:gdLst/>
            <a:ahLst/>
            <a:rect l="l" t="t" r="r" b="b"/>
            <a:pathLst>
              <a:path w="225" h="1370">
                <a:moveTo>
                  <a:pt x="0" y="1370"/>
                </a:moveTo>
                <a:lnTo>
                  <a:pt x="31" y="60"/>
                </a:lnTo>
                <a:lnTo>
                  <a:pt x="225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61280" y="3584520"/>
            <a:ext cx="392040" cy="2114640"/>
          </a:xfrm>
          <a:custGeom>
            <a:avLst/>
            <a:gdLst/>
            <a:ahLst/>
            <a:rect l="l" t="t" r="r" b="b"/>
            <a:pathLst>
              <a:path w="247" h="1332">
                <a:moveTo>
                  <a:pt x="0" y="1332"/>
                </a:moveTo>
                <a:lnTo>
                  <a:pt x="29" y="58"/>
                </a:lnTo>
                <a:lnTo>
                  <a:pt x="247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94640" y="3532320"/>
            <a:ext cx="368280" cy="2058840"/>
          </a:xfrm>
          <a:custGeom>
            <a:avLst/>
            <a:gdLst/>
            <a:ahLst/>
            <a:rect l="l" t="t" r="r" b="b"/>
            <a:pathLst>
              <a:path w="232" h="1297">
                <a:moveTo>
                  <a:pt x="0" y="1297"/>
                </a:moveTo>
                <a:lnTo>
                  <a:pt x="16" y="52"/>
                </a:lnTo>
                <a:lnTo>
                  <a:pt x="232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00560" y="3473280"/>
            <a:ext cx="2835360" cy="254160"/>
          </a:xfrm>
          <a:custGeom>
            <a:avLst/>
            <a:gdLst/>
            <a:ahLst/>
            <a:rect l="l" t="t" r="r" b="b"/>
            <a:pathLst>
              <a:path w="1786" h="160">
                <a:moveTo>
                  <a:pt x="0" y="0"/>
                </a:moveTo>
                <a:lnTo>
                  <a:pt x="1786" y="16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0280" y="4086360"/>
            <a:ext cx="3128760" cy="347400"/>
          </a:xfrm>
          <a:custGeom>
            <a:avLst/>
            <a:gdLst/>
            <a:ahLst/>
            <a:rect l="l" t="t" r="r" b="b"/>
            <a:pathLst>
              <a:path w="1971" h="219">
                <a:moveTo>
                  <a:pt x="0" y="0"/>
                </a:moveTo>
                <a:lnTo>
                  <a:pt x="1776" y="219"/>
                </a:lnTo>
                <a:lnTo>
                  <a:pt x="1971" y="135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34040" y="4705200"/>
            <a:ext cx="3085920" cy="419400"/>
          </a:xfrm>
          <a:custGeom>
            <a:avLst/>
            <a:gdLst/>
            <a:ahLst/>
            <a:rect l="l" t="t" r="r" b="b"/>
            <a:pathLst>
              <a:path w="1944" h="264">
                <a:moveTo>
                  <a:pt x="0" y="0"/>
                </a:moveTo>
                <a:lnTo>
                  <a:pt x="1747" y="264"/>
                </a:lnTo>
                <a:lnTo>
                  <a:pt x="1944" y="147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34080" y="4641840"/>
            <a:ext cx="371520" cy="139680"/>
          </a:xfrm>
          <a:custGeom>
            <a:avLst/>
            <a:gdLst/>
            <a:ahLst/>
            <a:rect l="l" t="t" r="r" b="b"/>
            <a:pathLst>
              <a:path w="234" h="88">
                <a:moveTo>
                  <a:pt x="234" y="0"/>
                </a:moveTo>
                <a:lnTo>
                  <a:pt x="0" y="88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809760" y="4800600"/>
            <a:ext cx="338040" cy="138240"/>
          </a:xfrm>
          <a:custGeom>
            <a:avLst/>
            <a:gdLst/>
            <a:ahLst/>
            <a:rect l="l" t="t" r="r" b="b"/>
            <a:pathLst>
              <a:path w="1782" h="156">
                <a:moveTo>
                  <a:pt x="0" y="0"/>
                </a:moveTo>
                <a:lnTo>
                  <a:pt x="1782" y="15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805000" y="4578480"/>
            <a:ext cx="68580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648320" y="1689120"/>
            <a:ext cx="144756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5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724280" y="1676520"/>
            <a:ext cx="4114800" cy="4876560"/>
          </a:xfrm>
          <a:custGeom>
            <a:avLst/>
            <a:gdLst>
              <a:gd name="textAreaLeft" fmla="*/ 73440 w 4114800"/>
              <a:gd name="textAreaRight" fmla="*/ 4041360 w 4114800"/>
              <a:gd name="textAreaTop" fmla="*/ 73440 h 4876560"/>
              <a:gd name="textAreaBottom" fmla="*/ 4803120 h 4876560"/>
            </a:gdLst>
            <a:ahLst/>
            <a:rect l="textAreaLeft" t="textAreaTop" r="textAreaRight" b="textAreaBottom"/>
            <a:pathLst>
              <a:path w="21600" h="25598">
                <a:moveTo>
                  <a:pt x="1317" y="0"/>
                </a:moveTo>
                <a:arcTo wR="1317" hR="1317" stAng="16200000" swAng="-5400000"/>
                <a:lnTo>
                  <a:pt x="0" y="24281"/>
                </a:lnTo>
                <a:arcTo wR="1317" hR="1317" stAng="10800000" swAng="-5400000"/>
                <a:lnTo>
                  <a:pt x="20283" y="25598"/>
                </a:lnTo>
                <a:arcTo wR="1317" hR="1317" stAng="5400000" swAng="-5400000"/>
                <a:lnTo>
                  <a:pt x="21600" y="1317"/>
                </a:lnTo>
                <a:arcTo wR="1317" hR="1317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2993760" cy="3249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04920" y="1676520"/>
            <a:ext cx="4114800" cy="4876560"/>
          </a:xfrm>
          <a:custGeom>
            <a:avLst/>
            <a:gdLst>
              <a:gd name="textAreaLeft" fmla="*/ 73440 w 4114800"/>
              <a:gd name="textAreaRight" fmla="*/ 4041360 w 4114800"/>
              <a:gd name="textAreaTop" fmla="*/ 73440 h 4876560"/>
              <a:gd name="textAreaBottom" fmla="*/ 4803120 h 4876560"/>
            </a:gdLst>
            <a:ahLst/>
            <a:rect l="textAreaLeft" t="textAreaTop" r="textAreaRight" b="textAreaBottom"/>
            <a:pathLst>
              <a:path w="21600" h="25598">
                <a:moveTo>
                  <a:pt x="1317" y="0"/>
                </a:moveTo>
                <a:arcTo wR="1317" hR="1317" stAng="16200000" swAng="-5400000"/>
                <a:lnTo>
                  <a:pt x="0" y="24281"/>
                </a:lnTo>
                <a:arcTo wR="1317" hR="1317" stAng="10800000" swAng="-5400000"/>
                <a:lnTo>
                  <a:pt x="20283" y="25598"/>
                </a:lnTo>
                <a:arcTo wR="1317" hR="1317" stAng="5400000" swAng="-5400000"/>
                <a:lnTo>
                  <a:pt x="21600" y="1317"/>
                </a:lnTo>
                <a:arcTo wR="1317" hR="1317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59ab"/>
                </a:solidFill>
                <a:latin typeface="Arial"/>
              </a:rPr>
              <a:t>polycube-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6095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orld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1447920"/>
            <a:ext cx="1752840" cy="1447560"/>
          </a:xfrm>
          <a:prstGeom prst="roundRect">
            <a:avLst>
              <a:gd name="adj" fmla="val 1513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251460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xture RA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159760" y="4687920"/>
            <a:ext cx="617400" cy="98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354360" y="2449080"/>
            <a:ext cx="96840" cy="7858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400960" y="4341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4920" y="4871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30760" y="2362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549760" y="4430880"/>
            <a:ext cx="844560" cy="533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67652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39acf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22680" y="1838160"/>
            <a:ext cx="1703520" cy="586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62120" y="2438280"/>
            <a:ext cx="2982960" cy="333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17520" y="380880"/>
            <a:ext cx="6845400" cy="124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3737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Arial"/>
              </a:rPr>
              <a:t>Come and see our talk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visitor</cp:lastModifiedBy>
  <dcterms:modified xsi:type="dcterms:W3CDTF">2004-07-23T18:16:17Z</dcterms:modified>
  <cp:revision>32</cp:revision>
  <dc:subject/>
  <dc:title>Slide 1</dc:title>
</cp:coreProperties>
</file>